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"/>
          </p:nvPr>
        </p:nvSpPr>
        <p:spPr>
          <a:xfrm>
            <a:off x="3963960" y="-144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2"/>
          </p:nvPr>
        </p:nvSpPr>
        <p:spPr>
          <a:xfrm>
            <a:off x="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3"/>
          </p:nvPr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BFA1E1B-6436-4A34-80A2-058A02DCAF9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2859840" y="8836200"/>
            <a:ext cx="127476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6440" bIns="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830767AC-1D47-4A0F-8E1E-37D5EDBB3A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Img"/>
          </p:nvPr>
        </p:nvSpPr>
        <p:spPr>
          <a:xfrm>
            <a:off x="1185480" y="701280"/>
            <a:ext cx="4622760" cy="3465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8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880" bIns="478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C065172-DED9-4446-A066-AB4F2657C7F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19880" cy="34657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F7B7B1F-C80A-4A98-88AE-4943858B8C1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19880" cy="34657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A329FAE-224F-497E-8B4E-83BB3A15948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2864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8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583E2AC-C8ED-4371-AB84-50383AD7125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222200" y="72864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8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B528768-AD5F-4547-96A1-9590DFED7B1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22200" y="72864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8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E937B1A-7907-4733-9F78-B382601D15B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222200" y="72864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8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64AA66C-AEBB-4DAF-BFBF-09A7DCBD6BE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222200" y="72864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8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8FCB8BC-2A86-4021-8931-632015B75D2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22200" y="72864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8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57186DD-A491-4D7F-9C93-578E4480235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22200" y="72864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8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7475489-F0C3-4911-AD92-540BE62D014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2864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8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19BE4F3-D6F1-4086-9942-6DE1D0DB99A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2864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8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EBE00E3-2E79-443D-8D83-6147E0558CC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22200" y="72864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8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523EB42-460D-4A25-8181-B17A98F84DD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222200" y="72864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8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200" y="6566040"/>
            <a:ext cx="2342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1444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A13E1136-D42D-4F26-8097-DBFCCBF27989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D2AC0094-CF3E-4068-96BB-CAB318348636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90200" cy="488520"/>
            <a:chOff x="146160" y="201600"/>
            <a:chExt cx="349020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2960" y="25668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212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0120" y="256680"/>
              <a:ext cx="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1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588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156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064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384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68680" y="2566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032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2680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8548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2976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29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0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0480" y="461520"/>
              <a:ext cx="7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8664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0440" y="461520"/>
              <a:ext cx="1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092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37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50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480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064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1978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544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091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336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16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104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85400" y="4615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3868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5680" y="46152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4532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1552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6880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3864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276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296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Rectangle 2056"/>
          <p:cNvSpPr/>
          <p:nvPr/>
        </p:nvSpPr>
        <p:spPr>
          <a:xfrm>
            <a:off x="4209840" y="6567480"/>
            <a:ext cx="797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une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87200" y="888480"/>
            <a:ext cx="805644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for Engineers: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Part I</a:t>
            </a:r>
            <a:br>
              <a:rPr sz="48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utorial: Using PSP1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Object 3083"/>
          <p:cNvGraphicFramePr/>
          <p:nvPr/>
        </p:nvGraphicFramePr>
        <p:xfrm>
          <a:off x="625320" y="1204920"/>
          <a:ext cx="3784680" cy="540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7" name="Object 308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1204920"/>
                    <a:ext cx="3784680" cy="5403960"/>
                  </a:xfrm>
                  <a:prstGeom prst="rect">
                    <a:avLst/>
                  </a:prstGeom>
                  <a:ln w="2556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fter Developmen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812840" y="1486080"/>
            <a:ext cx="379116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lnSpc>
                <a:spcPct val="89000"/>
              </a:lnSpc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fter development, use your object LOC counter to measure object and program siz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actual size on the size estimating templat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ual size data is linked to the project plan summary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3079"/>
          <p:cNvSpPr/>
          <p:nvPr/>
        </p:nvSpPr>
        <p:spPr>
          <a:xfrm flipH="1" flipV="1">
            <a:off x="4192200" y="2058480"/>
            <a:ext cx="733320" cy="822600"/>
          </a:xfrm>
          <a:prstGeom prst="line">
            <a:avLst/>
          </a:prstGeom>
          <a:ln w="25560">
            <a:solidFill>
              <a:srgbClr val="3399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1" name="Line 3080"/>
          <p:cNvSpPr/>
          <p:nvPr/>
        </p:nvSpPr>
        <p:spPr>
          <a:xfrm flipH="1">
            <a:off x="4118040" y="2847960"/>
            <a:ext cx="797040" cy="1571760"/>
          </a:xfrm>
          <a:prstGeom prst="line">
            <a:avLst/>
          </a:prstGeom>
          <a:ln w="25560">
            <a:solidFill>
              <a:srgbClr val="3399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Object 16"/>
          <p:cNvGraphicFramePr/>
          <p:nvPr/>
        </p:nvGraphicFramePr>
        <p:xfrm>
          <a:off x="912960" y="2878200"/>
          <a:ext cx="3419280" cy="339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2960" y="2878200"/>
                    <a:ext cx="3419280" cy="3395520"/>
                  </a:xfrm>
                  <a:prstGeom prst="rect">
                    <a:avLst/>
                  </a:prstGeom>
                  <a:ln w="2556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ctual LOC/Hour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801360" y="1438200"/>
            <a:ext cx="793116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ual LOC/hour is calculated using actual Total New and Changed and Total Development Tim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ual LOC/Hour = 60</a:t>
            </a:r>
            <a:r>
              <a:rPr b="1" lang="en-US" sz="2000" spc="-1" strike="noStrike" baseline="-2000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26/422 = 32.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Oval 15"/>
          <p:cNvSpPr/>
          <p:nvPr/>
        </p:nvSpPr>
        <p:spPr>
          <a:xfrm>
            <a:off x="2714760" y="5956200"/>
            <a:ext cx="387360" cy="241560"/>
          </a:xfrm>
          <a:prstGeom prst="ellipse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7" name="Oval 17"/>
          <p:cNvSpPr/>
          <p:nvPr/>
        </p:nvSpPr>
        <p:spPr>
          <a:xfrm>
            <a:off x="3038400" y="4527720"/>
            <a:ext cx="387360" cy="241200"/>
          </a:xfrm>
          <a:prstGeom prst="ellipse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8" name="Oval 18"/>
          <p:cNvSpPr/>
          <p:nvPr/>
        </p:nvSpPr>
        <p:spPr>
          <a:xfrm>
            <a:off x="3048120" y="3413160"/>
            <a:ext cx="387360" cy="241200"/>
          </a:xfrm>
          <a:prstGeom prst="ellipse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o Date LOC/Hour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803160" y="1422360"/>
            <a:ext cx="810432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Date LOC/Hour is calculated in the same mann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Date LOC/Hour = 60</a:t>
            </a:r>
            <a:r>
              <a:rPr b="1" lang="en-US" sz="2000" spc="-1" strike="noStrike" baseline="-2000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39/1850 = 20.7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Group 13"/>
          <p:cNvGrpSpPr/>
          <p:nvPr/>
        </p:nvGrpSpPr>
        <p:grpSpPr>
          <a:xfrm>
            <a:off x="909720" y="2700360"/>
            <a:ext cx="3419280" cy="3395520"/>
            <a:chOff x="909720" y="2700360"/>
            <a:chExt cx="3419280" cy="3395520"/>
          </a:xfrm>
        </p:grpSpPr>
        <p:graphicFrame>
          <p:nvGraphicFramePr>
            <p:cNvPr id="212" name="Object 9"/>
            <p:cNvGraphicFramePr/>
            <p:nvPr/>
          </p:nvGraphicFramePr>
          <p:xfrm>
            <a:off x="909720" y="2700360"/>
            <a:ext cx="3419280" cy="33955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3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09720" y="2700360"/>
                      <a:ext cx="3419280" cy="3395520"/>
                    </a:xfrm>
                    <a:prstGeom prst="rect">
                      <a:avLst/>
                    </a:prstGeom>
                    <a:ln w="25560">
                      <a:solidFill>
                        <a:srgbClr val="00008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14" name="Oval 10"/>
            <p:cNvSpPr/>
            <p:nvPr/>
          </p:nvSpPr>
          <p:spPr>
            <a:xfrm>
              <a:off x="3273480" y="5788080"/>
              <a:ext cx="387360" cy="241200"/>
            </a:xfrm>
            <a:prstGeom prst="ellipse">
              <a:avLst/>
            </a:prstGeom>
            <a:noFill/>
            <a:ln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5" name="Oval 11"/>
            <p:cNvSpPr/>
            <p:nvPr/>
          </p:nvSpPr>
          <p:spPr>
            <a:xfrm>
              <a:off x="3807000" y="4330800"/>
              <a:ext cx="387000" cy="241200"/>
            </a:xfrm>
            <a:prstGeom prst="ellipse">
              <a:avLst/>
            </a:prstGeom>
            <a:noFill/>
            <a:ln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6" name="Oval 12"/>
            <p:cNvSpPr/>
            <p:nvPr/>
          </p:nvSpPr>
          <p:spPr>
            <a:xfrm>
              <a:off x="3816360" y="3216240"/>
              <a:ext cx="387360" cy="241200"/>
            </a:xfrm>
            <a:prstGeom prst="ellipse">
              <a:avLst/>
            </a:prstGeom>
            <a:noFill/>
            <a:ln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est Report Templat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02800" y="1434960"/>
            <a:ext cx="782820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is form to record data on each of your tes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test was ru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test data were us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s that were ob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lpful f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veloping and recording test ca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forming regression tes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 to page 620 of the textbook for further detail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essages to Remember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01720" y="14382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ing accuracy will fluctu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estimates will have some bia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E adjusts for bias using historical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gineering judgment is still requir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8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utorial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26560" y="14382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this tutorial, you wi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erstand the new elements of PSP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now how to use the PSP1 process scripts and for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 prepared to use PSP1 for assignment 4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1 Objectiv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01720" y="1438200"/>
            <a:ext cx="774072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objective of PSP1 is to establish an orderly and repeatable procedure for developing software size estimat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New Process Elemen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01720" y="14382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are three new process elements for PSP1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E size estimating metho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estimating templ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report templ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ject Plan Summary Exampl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14320" y="1438200"/>
            <a:ext cx="767736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will walk through an example of a completed PSP1 project plan summar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y the new items on this form are illustra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Object 21"/>
          <p:cNvGraphicFramePr/>
          <p:nvPr/>
        </p:nvGraphicFramePr>
        <p:xfrm>
          <a:off x="5083200" y="2238480"/>
          <a:ext cx="2824200" cy="407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9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83200" y="2238480"/>
                    <a:ext cx="2824200" cy="4070160"/>
                  </a:xfrm>
                  <a:prstGeom prst="rect">
                    <a:avLst/>
                  </a:prstGeom>
                  <a:ln w="2556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Object 18"/>
          <p:cNvGraphicFramePr/>
          <p:nvPr/>
        </p:nvGraphicFramePr>
        <p:xfrm>
          <a:off x="625320" y="1173240"/>
          <a:ext cx="3784680" cy="5403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1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5320" y="1173240"/>
                    <a:ext cx="3784680" cy="5403600"/>
                  </a:xfrm>
                  <a:prstGeom prst="rect">
                    <a:avLst/>
                  </a:prstGeom>
                  <a:ln w="2556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428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lanned Siz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727520" y="1407600"/>
            <a:ext cx="3703680" cy="51181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lnSpc>
                <a:spcPct val="85000"/>
              </a:lnSpc>
              <a:spcAft>
                <a:spcPts val="788"/>
              </a:spcAft>
              <a:buNone/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from the size estimating template is linked to the project plan summary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8"/>
          <p:cNvSpPr/>
          <p:nvPr/>
        </p:nvSpPr>
        <p:spPr>
          <a:xfrm>
            <a:off x="3584520" y="1895400"/>
            <a:ext cx="2702160" cy="1101960"/>
          </a:xfrm>
          <a:prstGeom prst="line">
            <a:avLst/>
          </a:prstGeom>
          <a:ln w="12600">
            <a:solidFill>
              <a:srgbClr val="99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3584520" y="2048040"/>
            <a:ext cx="2692440" cy="1063440"/>
          </a:xfrm>
          <a:prstGeom prst="line">
            <a:avLst/>
          </a:prstGeom>
          <a:ln w="12600">
            <a:solidFill>
              <a:srgbClr val="99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6" name="Line 10"/>
          <p:cNvSpPr/>
          <p:nvPr/>
        </p:nvSpPr>
        <p:spPr>
          <a:xfrm flipV="1">
            <a:off x="3811680" y="3636720"/>
            <a:ext cx="2463840" cy="1454040"/>
          </a:xfrm>
          <a:prstGeom prst="line">
            <a:avLst/>
          </a:prstGeom>
          <a:ln w="12600">
            <a:solidFill>
              <a:srgbClr val="99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7" name="Line 13"/>
          <p:cNvSpPr/>
          <p:nvPr/>
        </p:nvSpPr>
        <p:spPr>
          <a:xfrm>
            <a:off x="3584520" y="2200320"/>
            <a:ext cx="2702160" cy="1054080"/>
          </a:xfrm>
          <a:prstGeom prst="line">
            <a:avLst/>
          </a:prstGeom>
          <a:ln w="12600">
            <a:solidFill>
              <a:srgbClr val="99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8" name="Line 14"/>
          <p:cNvSpPr/>
          <p:nvPr/>
        </p:nvSpPr>
        <p:spPr>
          <a:xfrm flipV="1">
            <a:off x="3811680" y="3770280"/>
            <a:ext cx="2454120" cy="1473120"/>
          </a:xfrm>
          <a:prstGeom prst="line">
            <a:avLst/>
          </a:prstGeom>
          <a:ln w="12600">
            <a:solidFill>
              <a:srgbClr val="99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9" name="Line 15"/>
          <p:cNvSpPr/>
          <p:nvPr/>
        </p:nvSpPr>
        <p:spPr>
          <a:xfrm flipV="1">
            <a:off x="3813120" y="4054320"/>
            <a:ext cx="2454480" cy="657360"/>
          </a:xfrm>
          <a:prstGeom prst="line">
            <a:avLst/>
          </a:prstGeom>
          <a:ln w="12600">
            <a:solidFill>
              <a:srgbClr val="99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0" name="Line 16"/>
          <p:cNvSpPr/>
          <p:nvPr/>
        </p:nvSpPr>
        <p:spPr>
          <a:xfrm flipV="1">
            <a:off x="3811680" y="3503160"/>
            <a:ext cx="2454120" cy="978120"/>
          </a:xfrm>
          <a:prstGeom prst="line">
            <a:avLst/>
          </a:prstGeom>
          <a:ln w="12600">
            <a:solidFill>
              <a:srgbClr val="99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1" name="Line 17"/>
          <p:cNvSpPr/>
          <p:nvPr/>
        </p:nvSpPr>
        <p:spPr>
          <a:xfrm flipV="1">
            <a:off x="3811680" y="3912840"/>
            <a:ext cx="2454120" cy="1482840"/>
          </a:xfrm>
          <a:prstGeom prst="line">
            <a:avLst/>
          </a:prstGeom>
          <a:ln w="12600">
            <a:solidFill>
              <a:srgbClr val="99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Object 1034"/>
          <p:cNvGraphicFramePr/>
          <p:nvPr/>
        </p:nvGraphicFramePr>
        <p:xfrm>
          <a:off x="625320" y="1262160"/>
          <a:ext cx="3784680" cy="540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Object 10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1262160"/>
                    <a:ext cx="3784680" cy="5403600"/>
                  </a:xfrm>
                  <a:prstGeom prst="rect">
                    <a:avLst/>
                  </a:prstGeom>
                  <a:ln w="2556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4" name="Object 1035"/>
          <p:cNvGraphicFramePr/>
          <p:nvPr/>
        </p:nvGraphicFramePr>
        <p:xfrm>
          <a:off x="5197320" y="2882880"/>
          <a:ext cx="2541600" cy="3664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5" name="Object 103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97320" y="2882880"/>
                    <a:ext cx="2541600" cy="3664080"/>
                  </a:xfrm>
                  <a:prstGeom prst="rect">
                    <a:avLst/>
                  </a:prstGeom>
                  <a:ln w="2556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428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lanned Development Tim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10080" y="1806480"/>
            <a:ext cx="463392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imated development time is linked to the project plan summary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1032"/>
          <p:cNvSpPr/>
          <p:nvPr/>
        </p:nvSpPr>
        <p:spPr>
          <a:xfrm flipV="1">
            <a:off x="4267080" y="5248080"/>
            <a:ext cx="1981440" cy="368280"/>
          </a:xfrm>
          <a:prstGeom prst="line">
            <a:avLst/>
          </a:prstGeom>
          <a:ln w="12600">
            <a:solidFill>
              <a:srgbClr val="99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Object 7"/>
          <p:cNvGraphicFramePr/>
          <p:nvPr/>
        </p:nvGraphicFramePr>
        <p:xfrm>
          <a:off x="4930920" y="1527120"/>
          <a:ext cx="3390840" cy="488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0920" y="1527120"/>
                    <a:ext cx="3390840" cy="4886280"/>
                  </a:xfrm>
                  <a:prstGeom prst="rect">
                    <a:avLst/>
                  </a:prstGeom>
                  <a:ln w="2556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lanned LOC/Hour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802800" y="1434960"/>
            <a:ext cx="350532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/hour must be entered manually for program 4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nned LOC/hour is calculated using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lanned New and Changed LO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Total Planned Development Tim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nned LOC/Hour = 60</a:t>
            </a:r>
            <a:r>
              <a:rPr b="1" lang="en-US" sz="2000" spc="-1" strike="noStrike" baseline="-2000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71/609 = 26.7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Oval 11"/>
          <p:cNvSpPr/>
          <p:nvPr/>
        </p:nvSpPr>
        <p:spPr>
          <a:xfrm>
            <a:off x="6311880" y="2066760"/>
            <a:ext cx="387360" cy="241560"/>
          </a:xfrm>
          <a:prstGeom prst="ellipse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4" name="Oval 12"/>
          <p:cNvSpPr/>
          <p:nvPr/>
        </p:nvSpPr>
        <p:spPr>
          <a:xfrm>
            <a:off x="6273720" y="3133800"/>
            <a:ext cx="387360" cy="241200"/>
          </a:xfrm>
          <a:prstGeom prst="ellipse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5" name="Oval 13"/>
          <p:cNvSpPr/>
          <p:nvPr/>
        </p:nvSpPr>
        <p:spPr>
          <a:xfrm>
            <a:off x="6197760" y="4556160"/>
            <a:ext cx="387360" cy="241200"/>
          </a:xfrm>
          <a:prstGeom prst="ellipse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09-07T20:09:41Z</cp:lastPrinted>
  <dcterms:modified xsi:type="dcterms:W3CDTF">2018-09-06T00:17:11Z</dcterms:modified>
  <cp:revision>81</cp:revision>
  <dc:subject/>
  <dc:title>No Slide Title</dc:title>
</cp:coreProperties>
</file>